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C48-9BBA-48C8-9BA1-0E3DFC84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508-2DCB-4363-B4E2-1EC7CE4D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563-1B89-4819-867C-48AB51B6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F10-A22F-42DA-9CC1-C38F3571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194-C281-4A22-9E0B-4E75D1C4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CC4-7CDB-4337-A128-EF5A0F41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122-AB5B-4C70-9649-7D0F00DA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807-702C-41DE-9A9F-B1E7E84F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5A2-B3A9-4C83-9825-91A49CF4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6E9-CACB-46AA-9430-97629755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ABD-E9F7-4DF1-97DB-756C7D56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AC1-9099-49E2-B2A0-2A5D4FAD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1982-4329-474C-AC7D-8E51185EDA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n.gov.ua/newstmp/2011/16_05/nmo-436.doc" TargetMode="External"/><Relationship Id="rId2" Type="http://schemas.openxmlformats.org/officeDocument/2006/relationships/hyperlink" Target="http://www.mon.gov.ua/newstmp/2011/16_05/nmo-436.doc" TargetMode="External"/><Relationship Id="rId3" Type="http://schemas.openxmlformats.org/officeDocument/2006/relationships/hyperlink" Target="http://www.mon.gov.ua/newstmp/2011/25_06/1_9_493.doc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відсотків 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володіння основами І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287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558ed5"/>
                </a:solidFill>
                <a:latin typeface="Calibri"/>
              </a:rPr>
              <a:t>Рекомендац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558ed5"/>
                </a:solidFill>
                <a:latin typeface="Calibri"/>
              </a:rPr>
              <a:t>вчитель - вчител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2213280" y="6145200"/>
            <a:ext cx="472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imn14lutsk.byethost3.com/joom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D:\Logo.jpg"/>
          <p:cNvPicPr/>
          <p:nvPr/>
        </p:nvPicPr>
        <p:blipFill>
          <a:blip r:embed="rId2"/>
          <a:stretch/>
        </p:blipFill>
        <p:spPr>
          <a:xfrm>
            <a:off x="2938320" y="2073240"/>
            <a:ext cx="3181320" cy="4205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100 відсотків\02-Елементи Web-сторінки\Снимок11-10.jpg"/>
          <p:cNvPicPr/>
          <p:nvPr/>
        </p:nvPicPr>
        <p:blipFill>
          <a:blip r:embed="rId1"/>
          <a:stretch/>
        </p:blipFill>
        <p:spPr>
          <a:xfrm>
            <a:off x="1390680" y="61920"/>
            <a:ext cx="6362640" cy="6734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100 відсотків\02-Елементи Web-сторінки\Снимок11-11.jpg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03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100 відсотків\02-Елементи Web-сторінки\Снимок11-12.jpg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70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100 відсотків\02-Елементи Web-сторінки\Снимок15.jpg"/>
          <p:cNvPicPr/>
          <p:nvPr/>
        </p:nvPicPr>
        <p:blipFill>
          <a:blip r:embed="rId1"/>
          <a:stretch/>
        </p:blipFill>
        <p:spPr>
          <a:xfrm>
            <a:off x="39528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Тестув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D:\100 відсотків\02-Елементи Web-сторінки\Снимок16.jpg"/>
          <p:cNvPicPr/>
          <p:nvPr/>
        </p:nvPicPr>
        <p:blipFill>
          <a:blip r:embed="rId1"/>
          <a:stretch/>
        </p:blipFill>
        <p:spPr>
          <a:xfrm>
            <a:off x="900000" y="1268280"/>
            <a:ext cx="7432920" cy="5343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100 відсотків\02-Елементи Web-сторінки\Елементи керування тесто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Результати тестув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100 відсотків\04-Зразок результатів та сертифіката\Снимок19.jpg"/>
          <p:cNvPicPr/>
          <p:nvPr/>
        </p:nvPicPr>
        <p:blipFill>
          <a:blip r:embed="rId1"/>
          <a:stretch/>
        </p:blipFill>
        <p:spPr>
          <a:xfrm>
            <a:off x="250920" y="1590840"/>
            <a:ext cx="8642160" cy="4141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Тест не складе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100 відсотків\04-Зразок результатів та сертифіката\02-Тест не складено-2.jpg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собистий навчальний 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:\100 відсотків\04-Зразок результатів та сертифіката\03-Особистий навчальний план22.jpg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5329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Тест складе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100 відсотків\04-Зразок результатів та сертифіката\04-Тест складено.jpg"/>
          <p:cNvPicPr/>
          <p:nvPr/>
        </p:nvPicPr>
        <p:blipFill>
          <a:blip r:embed="rId1"/>
          <a:stretch/>
        </p:blipFill>
        <p:spPr>
          <a:xfrm>
            <a:off x="250920" y="141300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ормативні докумен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655560" y="134136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Наказ</a:t>
            </a:r>
            <a:r>
              <a:rPr b="0" lang="uk-UA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МОНмолодьспорт №436 від 11 травня 2011 року «Про підготовку до початку 2011/2012 навчального року»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ункт 3.18. розробити плани оволодіння 100 % педагогічних працівників загальноосвітніх навчальних закладів основ інформаційно-комунікативних технологі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Лист МОНмолодьспорт №1/9-493 від 24 червня 2011 року «Щодо організації навчання вчителів з використання інформаційно-комунікаційних технологі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Адрес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-сторінки проходження навчання та тестування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icrosoft.com/about/corporatecitizenship/citizenship/giving/programs/up/digitalliteracy/ukr/Curriculum.mspx#certificatetest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Друк сертифік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100 відсотків\04-Зразок результатів та сертифіката\05-Друк сертифіката.jpg"/>
          <p:cNvPicPr/>
          <p:nvPr/>
        </p:nvPicPr>
        <p:blipFill>
          <a:blip r:embed="rId1"/>
          <a:stretch/>
        </p:blipFill>
        <p:spPr>
          <a:xfrm>
            <a:off x="539640" y="1471680"/>
            <a:ext cx="8116920" cy="512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Зразок сертифік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D:\100 відсотків\04-Зразок результатів та сертифіката\06-Зразок сертифіката.JPG"/>
          <p:cNvPicPr/>
          <p:nvPr/>
        </p:nvPicPr>
        <p:blipFill>
          <a:blip r:embed="rId1"/>
          <a:stretch/>
        </p:blipFill>
        <p:spPr>
          <a:xfrm>
            <a:off x="1411200" y="1628640"/>
            <a:ext cx="6362640" cy="469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Особливості тестув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"/>
          <p:cNvSpPr/>
          <p:nvPr/>
        </p:nvSpPr>
        <p:spPr>
          <a:xfrm>
            <a:off x="382680" y="1197000"/>
            <a:ext cx="835344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пускати тест необхідно через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alibri"/>
              </a:rPr>
              <a:t>Internet Explorer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6 версії і вище. (В браузері Opera відкривається лише перше питання, а потім видає помилку. В браузері Mozilla Firefox відразу видає помилку. Інші браузери не перевірялись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ходження тесту розраховано на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alibri"/>
              </a:rPr>
              <a:t>60 хвил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ід час тестування можна повернутися до будь-якого питання і змінити відповід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ісля визначення результатів тестування повернутися до запитань і змінити відповіді неможли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и визначення результатів тестування не вказуються питання, на які ви відповіли неправиль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ля успішного проходження тестування необхідно набрати не менше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alibri"/>
              </a:rPr>
              <a:t>80%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правильних відповідей. (Тобто дозволяється здійснити 6 неправильних відповідей з 30 питань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539640" y="687240"/>
            <a:ext cx="81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Тестування можна проходити декілька разів одному і тому самому користувачеві. При повторному тестуванні як правило змінюються до 25% пита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Тестування не пр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язано до ІР-адреси комп'ютера і тому на одному комп'ютері пройти тестування можуть декілька користувач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жен користувач, який успішно склав тест отримує сертифікат стандартного зразка, який має номер унікальний для кожного сертифіката. Дані сертифіката заносяться у базу даних і тому підробити його не вдас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тримані результати тестування та сертифікат можна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alibri"/>
              </a:rPr>
              <a:t>лише роздрукувати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 принтері, зберегти його у вигляді малюнка чи Web-сторінки неможливо. Для збереження його на комп'ютер використовуйте програми для створення скрін-шоті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Використані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джер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393840" y="177336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айт Мiнiстерства освiти і науки, молоді та спорту України                                      Розділ "ЗАКОНОДАВСТВО"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mon.gov.ua/?id=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ідділ інформаційних технологій Донецького ОблІПП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http://ippo-vit-basa.ho.u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вчальний план із курсу цифрових технологій Microsoft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microsoft.com/about/corporatecitizenship/citizenship/giving/programs/up/digitalliteracy/ukr/Curriculum.mspx#certificatetest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питання-відповід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http://www.microsoft.com/about/corporatecitizenship/citizenship/giving/programs/up/digitalliteracy/ukr/FAQ.msp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авчальний план із курсу цифрових технологі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100 відсотків\02-Елементи Web-сторінки\Снимок11-1.jpg"/>
          <p:cNvPicPr/>
          <p:nvPr/>
        </p:nvPicPr>
        <p:blipFill>
          <a:blip r:embed="rId1"/>
          <a:stretch/>
        </p:blipFill>
        <p:spPr>
          <a:xfrm>
            <a:off x="250920" y="1628640"/>
            <a:ext cx="8642160" cy="4534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100 відсотків\02-Елементи Web-сторінки\Снимок11-3.jpg"/>
          <p:cNvPicPr/>
          <p:nvPr/>
        </p:nvPicPr>
        <p:blipFill>
          <a:blip r:embed="rId1"/>
          <a:stretch/>
        </p:blipFill>
        <p:spPr>
          <a:xfrm>
            <a:off x="324000" y="735120"/>
            <a:ext cx="8496000" cy="547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100 відсотків\02-Елементи Web-сторінки\Снимок11-4.jpg"/>
          <p:cNvPicPr/>
          <p:nvPr/>
        </p:nvPicPr>
        <p:blipFill>
          <a:blip r:embed="rId1"/>
          <a:stretch/>
        </p:blipFill>
        <p:spPr>
          <a:xfrm>
            <a:off x="250920" y="1424160"/>
            <a:ext cx="8642160" cy="400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100 відсотків\02-Елементи Web-сторінки\Снимок11-5.jpg"/>
          <p:cNvPicPr/>
          <p:nvPr/>
        </p:nvPicPr>
        <p:blipFill>
          <a:blip r:embed="rId1"/>
          <a:stretch/>
        </p:blipFill>
        <p:spPr>
          <a:xfrm>
            <a:off x="324000" y="1595520"/>
            <a:ext cx="84960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100 відсотків\02-Елементи Web-сторінки\Снимок11-6.jpg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100 відсотків\02-Елементи Web-сторінки\Снимок11-8.jpg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100 відсотків\02-Елементи Web-сторінки\Снимок11-9.jpg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046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05:54:19Z</dcterms:created>
  <dc:creator>USER</dc:creator>
  <dc:description/>
  <dc:language>en-US</dc:language>
  <cp:lastModifiedBy>Teacher</cp:lastModifiedBy>
  <dcterms:modified xsi:type="dcterms:W3CDTF">2011-12-07T09:45:23Z</dcterms:modified>
  <cp:revision>18</cp:revision>
  <dc:subject/>
  <dc:title>100 відсотків  володіння основами ІКТ</dc:title>
</cp:coreProperties>
</file>