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343-FEFF-413B-A550-29A2AC44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3DB-3F76-42EE-BDD8-5E2C3A42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E07-B37E-4B7C-8746-E51C7DA1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ECF-9DD1-4F94-BD35-6E274776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99268-247B-4C10-B275-F1139A92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D465D-8373-4CDC-BD15-047EC632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0151C-FD27-46F0-A987-62D358E2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6B1E0-2A71-4FDD-A771-DC328EEE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6FA8D-5E1B-4D18-8611-F95F98CA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24AE0-BCB8-4BAF-8C64-6C99A791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1B0FF-7145-47CE-AF71-1B3ADF23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CE2-ABA1-455E-B4EA-2AE1BAF7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B90A0-2B6F-40CF-8AF4-03809F41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06669-6584-45E6-8868-9FF044C5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90E82-89D5-4254-AD49-19C98A02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01514-7644-4C3D-9EBD-FB06756F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F600F-6497-4B7B-9CB9-5BBD6D6E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46CD1-1742-407A-A435-E418E075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ACB8F-60B4-4E6C-87AD-5C8AD54A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CE9FA-E14B-46A7-9A2B-7359F2BE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340BB-AA4D-4DFA-A7A7-601F1B98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9924D-02B7-4913-95AB-EE12FEA4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F82-E338-45C4-8428-8610547B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5EE81-BD79-425B-8C64-F3BED760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C1EB5-D615-4A07-9563-127BE78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DD4E3-235E-4DD8-9E93-91BA4471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DB837-1998-457A-B84E-0B8F1515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FFD08-4D4C-492B-9C55-AADD968B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DFF13-58FE-4C6E-B9F1-F3A88883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7E4D4-7CE0-4837-A1FB-4621C0F4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D9C-7935-44CC-85B0-01FAEA7D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A33-87A2-4F99-BC8A-55E0EE1F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683-8A8B-49E0-88C5-492917FC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C69-A86F-4BCC-8A67-A7685F5C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C7A-A38A-444A-A9C5-563E9BAB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467-C00C-4DD6-B534-82CA53A7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A1E6-1B6E-47BC-A24E-6ED87596C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A5E2-8104-40B9-86A7-8C5BEB2BB3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2C27-5CE6-46C6-94F5-104867C400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"/>
          <p:cNvGrpSpPr/>
          <p:nvPr/>
        </p:nvGrpSpPr>
        <p:grpSpPr>
          <a:xfrm>
            <a:off x="-1219320" y="-685800"/>
            <a:ext cx="11997000" cy="7543800"/>
            <a:chOff x="-1219320" y="-685800"/>
            <a:chExt cx="11997000" cy="7543800"/>
          </a:xfrm>
        </p:grpSpPr>
        <p:pic>
          <p:nvPicPr>
            <p:cNvPr id="124" name="Picture 2" descr=""/>
            <p:cNvPicPr/>
            <p:nvPr/>
          </p:nvPicPr>
          <p:blipFill>
            <a:blip r:embed="rId1"/>
            <a:stretch/>
          </p:blipFill>
          <p:spPr>
            <a:xfrm>
              <a:off x="-1219320" y="-685800"/>
              <a:ext cx="11997000" cy="75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3"/>
            <p:cNvSpPr/>
            <p:nvPr/>
          </p:nvSpPr>
          <p:spPr>
            <a:xfrm>
              <a:off x="6400800" y="-685800"/>
              <a:ext cx="21333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"/>
            <p:cNvSpPr/>
            <p:nvPr/>
          </p:nvSpPr>
          <p:spPr>
            <a:xfrm>
              <a:off x="1218960" y="4427640"/>
              <a:ext cx="685800" cy="75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6"/>
            <p:cNvSpPr/>
            <p:nvPr/>
          </p:nvSpPr>
          <p:spPr>
            <a:xfrm>
              <a:off x="7620120" y="4427640"/>
              <a:ext cx="685800" cy="75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464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Heavy"/>
                <a:ea typeface="Arial"/>
              </a:rPr>
              <a:t>Питання про зміну кліма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filelibrary.myaasite.com/Content/23/23951/254515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214200" y="571680"/>
            <a:ext cx="8929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ranklin Gothic Heavy"/>
              </a:rPr>
              <a:t>Через що міняється клімат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transitionnorwich.org/images/Climate.jpg"/>
          <p:cNvPicPr/>
          <p:nvPr/>
        </p:nvPicPr>
        <p:blipFill>
          <a:blip r:embed="rId2"/>
          <a:srcRect l="13212" t="0" r="10144" b="0"/>
          <a:stretch/>
        </p:blipFill>
        <p:spPr>
          <a:xfrm>
            <a:off x="0" y="0"/>
            <a:ext cx="947736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461880" y="5105520"/>
            <a:ext cx="878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Franklin Gothic Heavy"/>
              </a:rPr>
              <a:t>Чи відбувається глобальне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Franklin Gothic Heavy"/>
              </a:rPr>
              <a:t>потепління насправді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flsart.org/newsletter/images/09.02/climate.jpg"/>
          <p:cNvPicPr/>
          <p:nvPr/>
        </p:nvPicPr>
        <p:blipFill>
          <a:blip r:embed="rId2"/>
          <a:srcRect l="8684" t="0" r="17990" b="1222"/>
          <a:stretch/>
        </p:blipFill>
        <p:spPr>
          <a:xfrm>
            <a:off x="0" y="0"/>
            <a:ext cx="9174240" cy="70009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2362320" y="5226120"/>
            <a:ext cx="6781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54061"/>
                </a:solidFill>
                <a:latin typeface="Franklin Gothic Heavy"/>
              </a:rPr>
              <a:t>Як про це дізнаються</a:t>
            </a:r>
            <a:br>
              <a:rPr sz="5000"/>
            </a:br>
            <a:r>
              <a:rPr b="0" lang="en-US" sz="5000" spc="-1" strike="noStrike">
                <a:solidFill>
                  <a:srgbClr val="254061"/>
                </a:solidFill>
                <a:latin typeface="Franklin Gothic Heavy"/>
              </a:rPr>
              <a:t>вчені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www.worldfishcenter.org/wfcms/images/climate%20change/P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0773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0" y="343080"/>
            <a:ext cx="3581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6228"/>
                </a:solidFill>
                <a:latin typeface="Franklin Gothic Heavy"/>
              </a:rPr>
              <a:t>Чому це стосується нас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160" y="218880"/>
            <a:ext cx="7467480" cy="56005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160" y="5943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www.justmeans.com/editorial/wp-content/uploads/2009/10/climate-change-e28093-are-we-doing-enough.bmp"/>
          <p:cNvPicPr/>
          <p:nvPr/>
        </p:nvPicPr>
        <p:blipFill>
          <a:blip r:embed="rId2"/>
          <a:stretch/>
        </p:blipFill>
        <p:spPr>
          <a:xfrm>
            <a:off x="0" y="-4894200"/>
            <a:ext cx="9144000" cy="117522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214200" y="5715000"/>
            <a:ext cx="809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Franklin Gothic Heavy"/>
              </a:rPr>
              <a:t>Що ми можемо зробити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1:19:47Z</dcterms:created>
  <dc:creator>Robyn Fisher, v-robynf@microsoft.com</dc:creator>
  <dc:description/>
  <dc:language>en-US</dc:language>
  <cp:lastModifiedBy>virtual_test</cp:lastModifiedBy>
  <dcterms:modified xsi:type="dcterms:W3CDTF">2010-07-08T08:12:30Z</dcterms:modified>
  <cp:revision>7</cp:revision>
  <dc:subject/>
  <dc:title>Climate Change Questions</dc:title>
</cp:coreProperties>
</file>