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AE7-D892-4A20-8842-18A949CC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CED-3444-435F-8DF5-9DC66277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915-B607-435A-B7DB-4D7EDFC9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91C-F761-4363-BC49-16BB080A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B8D-DB7C-4C58-B64B-581BEBC9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D4F-328A-4849-A20A-3BFC911A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539-6075-4455-9774-C47F104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A42-60FF-432E-8B95-CC4FC9A4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CB5-1CB6-4CBB-8675-07FFAF7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F0C-507B-4F8D-BBBB-92CB1E2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FE0-4871-4472-9229-E88BD3D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3EB-1F4B-473C-BD35-4203DF8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173-992D-4311-9B99-9EF376DE37C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Право чи обов'яз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898989"/>
                </a:solidFill>
                <a:latin typeface="Calibri"/>
              </a:rPr>
              <a:t>?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римувати доброзичливе став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римувати доброзичливе став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сити про допомо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ти слухня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одити до шко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ути почут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е знущатися з ін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чуватися у школі безпеч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ounded Rectangle 4"/>
          <p:cNvSpPr/>
          <p:nvPr/>
        </p:nvSpPr>
        <p:spPr>
          <a:xfrm>
            <a:off x="1714680" y="1500120"/>
            <a:ext cx="5857560" cy="221472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цювати у сприятливих умов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9288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раво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43680" y="4500720"/>
            <a:ext cx="22143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Обов'язок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429000" y="5786280"/>
            <a:ext cx="2214720" cy="857520"/>
          </a:xfrm>
          <a:prstGeom prst="rect">
            <a:avLst/>
          </a:prstGeom>
          <a:solidFill>
            <a:srgbClr val="40315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Чом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1:28:53Z</dcterms:created>
  <dc:creator>Baldev</dc:creator>
  <dc:description/>
  <dc:language>en-US</dc:language>
  <cp:lastModifiedBy>virtual_test</cp:lastModifiedBy>
  <dcterms:modified xsi:type="dcterms:W3CDTF">2010-07-08T08:03:25Z</dcterms:modified>
  <cp:revision>6</cp:revision>
  <dc:subject/>
  <dc:title>Rights or Responsibility</dc:title>
</cp:coreProperties>
</file>