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10C-6AB1-44CF-98FF-59582DED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5C2-99D4-4B63-9E6C-4928086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A71-882D-4837-A6AF-84233ABB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6D8-49ED-4141-A934-E004B014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1A6-3219-4B35-91A9-25C269E6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6A1-DE60-4081-8D82-688A3659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88D-202C-4240-8962-3582B5C3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C61-3438-4E54-AD68-5C721AE9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AAF-83EA-42B1-92CE-F0A53A3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1A8-F564-408C-A804-6F9EA7D3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36D-468A-4587-9E7D-6B7D472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E9C-8DEF-4F67-9141-FBD5A99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444E-E898-4861-80C7-71D08B3E0B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what-is-malar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147560" y="5429160"/>
            <a:ext cx="5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3:06:08Z</dcterms:created>
  <dc:creator>Baldev</dc:creator>
  <dc:description/>
  <dc:language>en-US</dc:language>
  <cp:lastModifiedBy>NB-02 User</cp:lastModifiedBy>
  <dcterms:modified xsi:type="dcterms:W3CDTF">2010-03-25T22:18:09Z</dcterms:modified>
  <cp:revision>1</cp:revision>
  <dc:subject/>
  <dc:title>Slide 1</dc:title>
</cp:coreProperties>
</file>