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2863-E362-4853-BA6E-4AB4AB7C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0984-19CC-423B-AAB4-2C02F6B5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78A0-71A6-480E-8B8E-A715BD8B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C8DD-D217-4CEF-8E85-EEB3AC77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BDA3-8249-416D-93D3-4E02437E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83D-87CF-4EE3-9627-90272EE3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67A-14A4-4338-844E-C4A01E4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6EA-2421-4864-97BD-D30EDFA9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D9D-D167-4E2F-B8E5-372DCF4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E712-8685-4CAE-9EEE-3516A9E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80A7-4B8F-4306-9CB5-B3D5ABB6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519F-A2CF-47D3-919A-0A779AD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D464-6408-4099-9DD7-226AF08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7C1-B25E-4416-818D-5425E14E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00BD-D4A5-4724-9A3D-93903CC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818-4F3B-4122-95E7-98DC9392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CFB-140F-41AD-A678-71B7CD56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399E-6939-4123-A6CA-72DF01C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FE0B-86B1-41A5-ABD0-0C0CA148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BC5F-4533-4F98-ACD8-32D0306A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B3A0-541E-49CC-BF3F-2EFF7E5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76C1-1D52-4D18-9CDE-6B7B472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3B5A-8BDB-4488-BB83-90E4D08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62E3-F760-4263-82A4-84A3C02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F790-E6CB-49E5-9B5C-F8E7CC59E2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E715-EAA9-4013-9FA6-A38F6365A2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1080" y="500040"/>
            <a:ext cx="61182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c3bf95"/>
                </a:solidFill>
                <a:latin typeface="Cambria"/>
              </a:rPr>
              <a:t>«Цифра»</a:t>
            </a:r>
            <a:endParaRPr b="0" lang="en-US" sz="7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1080" y="1999800"/>
            <a:ext cx="6118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600" spc="-1" strike="noStrike">
                <a:solidFill>
                  <a:srgbClr val="6d7d76"/>
                </a:solidFill>
                <a:latin typeface="Cambria"/>
              </a:rPr>
              <a:t>Майбутнє поруч</a:t>
            </a:r>
            <a:endParaRPr b="0" lang="en-US" sz="5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6" name="Picture 2" descr="C:\Users\Владелец\Desktop\Матеріали для роботи\Матеріали для презентації\Приклад логотипу.jpg"/>
          <p:cNvPicPr/>
          <p:nvPr/>
        </p:nvPicPr>
        <p:blipFill>
          <a:blip r:embed="rId1"/>
          <a:stretch/>
        </p:blipFill>
        <p:spPr>
          <a:xfrm>
            <a:off x="1170000" y="3359160"/>
            <a:ext cx="4925880" cy="4016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3bf95"/>
                </a:solidFill>
                <a:latin typeface="Cambria"/>
              </a:rPr>
              <a:t>Контактні данні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Адреса: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м. Донецьк., http://cifra.c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E-mail:    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menedjer@cifra.c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Тел..: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062-123-45-67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001-123-45-67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Товари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Планше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Ноутбук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Електронні книг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Робо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Гадже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2" descr="D:\Kornev\Олимпиада\Олимпиада ИКТ 2011-2012\II етап\Задачі\Матеріали для роботи\Матеріали для проспекту\book.jpg"/>
          <p:cNvPicPr/>
          <p:nvPr/>
        </p:nvPicPr>
        <p:blipFill>
          <a:blip r:embed="rId1"/>
          <a:stretch/>
        </p:blipFill>
        <p:spPr>
          <a:xfrm>
            <a:off x="6900840" y="544500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Kornev\Олимпиада\Олимпиада ИКТ 2011-2012\II етап\Задачі\Матеріали для роботи\Матеріали для проспекту\mous.jpg"/>
          <p:cNvPicPr/>
          <p:nvPr/>
        </p:nvPicPr>
        <p:blipFill>
          <a:blip r:embed="rId2"/>
          <a:stretch/>
        </p:blipFill>
        <p:spPr>
          <a:xfrm>
            <a:off x="7020000" y="1668600"/>
            <a:ext cx="788760" cy="71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Kornev\Олимпиада\Олимпиада ИКТ 2011-2012\II етап\Задачі\Матеріали для роботи\Матеріали для проспекту\nout.jpg"/>
          <p:cNvPicPr/>
          <p:nvPr/>
        </p:nvPicPr>
        <p:blipFill>
          <a:blip r:embed="rId3"/>
          <a:stretch/>
        </p:blipFill>
        <p:spPr>
          <a:xfrm>
            <a:off x="7105680" y="350028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Kornev\Олимпиада\Олимпиада ИКТ 2011-2012\II етап\Задачі\Матеріали для роботи\Матеріали для проспекту\rob1.jpg"/>
          <p:cNvPicPr/>
          <p:nvPr/>
        </p:nvPicPr>
        <p:blipFill>
          <a:blip r:embed="rId4"/>
          <a:stretch/>
        </p:blipFill>
        <p:spPr>
          <a:xfrm>
            <a:off x="6178680" y="4365720"/>
            <a:ext cx="1035000" cy="71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Kornev\Олимпиада\Олимпиада ИКТ 2011-2012\II етап\Задачі\Матеріали для роботи\Матеріали для проспекту\планшет.jpg"/>
          <p:cNvPicPr/>
          <p:nvPr/>
        </p:nvPicPr>
        <p:blipFill>
          <a:blip r:embed="rId5"/>
          <a:stretch/>
        </p:blipFill>
        <p:spPr>
          <a:xfrm>
            <a:off x="6497640" y="2627280"/>
            <a:ext cx="10461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84360" y="830160"/>
            <a:ext cx="38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і буде?..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072120" y="5265720"/>
            <a:ext cx="250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!!!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Picture 2" descr="C:\Users\Владелец\Desktop\Матеріали для роботи\Матеріали для презентації\ПК3.jpg"/>
          <p:cNvPicPr/>
          <p:nvPr/>
        </p:nvPicPr>
        <p:blipFill>
          <a:blip r:embed="rId1"/>
          <a:stretch/>
        </p:blipFill>
        <p:spPr>
          <a:xfrm>
            <a:off x="7321680" y="19512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Владелец\Desktop\Матеріали для роботи\Матеріали для презентації\ПК_2.png"/>
          <p:cNvPicPr/>
          <p:nvPr/>
        </p:nvPicPr>
        <p:blipFill>
          <a:blip r:embed="rId2"/>
          <a:stretch/>
        </p:blipFill>
        <p:spPr>
          <a:xfrm>
            <a:off x="5810400" y="1341360"/>
            <a:ext cx="1498320" cy="149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Владелец\Desktop\Матеріали для роботи\Матеріали для презентації\ПК1.jpg"/>
          <p:cNvPicPr/>
          <p:nvPr/>
        </p:nvPicPr>
        <p:blipFill>
          <a:blip r:embed="rId3"/>
          <a:stretch/>
        </p:blipFill>
        <p:spPr>
          <a:xfrm>
            <a:off x="4206960" y="2639880"/>
            <a:ext cx="1676160" cy="121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Владелец\Desktop\Матеріали для роботи\Матеріали для презентації\Арифмометр.jpg"/>
          <p:cNvPicPr/>
          <p:nvPr/>
        </p:nvPicPr>
        <p:blipFill>
          <a:blip r:embed="rId4"/>
          <a:stretch/>
        </p:blipFill>
        <p:spPr>
          <a:xfrm>
            <a:off x="2352600" y="4048200"/>
            <a:ext cx="1822680" cy="113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Владелец\Desktop\Матеріали для роботи\Матеріали для презентації\абак.gif"/>
          <p:cNvPicPr/>
          <p:nvPr/>
        </p:nvPicPr>
        <p:blipFill>
          <a:blip r:embed="rId5"/>
          <a:stretch/>
        </p:blipFill>
        <p:spPr>
          <a:xfrm>
            <a:off x="360360" y="5211720"/>
            <a:ext cx="1852560" cy="128592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11"/>
          <p:cNvSpPr/>
          <p:nvPr/>
        </p:nvSpPr>
        <p:spPr>
          <a:xfrm>
            <a:off x="63360" y="6035760"/>
            <a:ext cx="1000440" cy="92844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382680 h 928440"/>
              <a:gd name="textAreaBottom" fmla="*/ 545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0.85573 -0.8676 E">
                                      <p:cBhvr>
                                        <p:cTn id="13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19:20Z</dcterms:created>
  <dc:creator>Владелец</dc:creator>
  <dc:description/>
  <dc:language>en-US</dc:language>
  <cp:lastModifiedBy>Корнев</cp:lastModifiedBy>
  <dcterms:modified xsi:type="dcterms:W3CDTF">2012-01-06T07:47:43Z</dcterms:modified>
  <cp:revision>10</cp:revision>
  <dc:subject/>
  <dc:title>«Цифра»</dc:title>
</cp:coreProperties>
</file>