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D535-D4B1-4C27-AF87-A77E4801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CFC9-8B43-41DF-BBA6-EA84E6CE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73D0-4CF6-4AF7-BF08-3F676B92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1FD1-6F95-40C9-A30B-E20E7D0B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A270-E0FA-4653-8BF4-ADDFCA81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3DBF-48D2-4740-AF83-47C79E35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7C89-EAE2-46C3-9996-E877B07F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CA4A-AF78-44B6-B645-E10A2F56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0551-8274-40AF-9FE6-078B351C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0C33-CD74-40DA-8C5A-164B3310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FBD9-5AF9-41A9-A587-DB08869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ECD0-F534-4C5F-8111-E1908CE6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F683-5DA4-4FBF-B820-B9399243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5384-9718-487C-AC94-361E3C22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074E-92A8-4DB0-B7C9-9E88F9E9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6F20-A517-41BD-B2B9-12BBCC2E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057B-84D9-4DBE-9476-DF8FAD45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F70D-B1E0-4D97-B9E7-0477187F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BF06-22D6-4A36-A55A-15EA5D60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51BF-9CA4-406B-BCCF-E3C12AFA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AEB2-8E67-447F-9948-DF433E0B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7CD58-8C11-41C9-962C-C1253D1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DAEE-D3CA-45F7-91C7-AFE48247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137A-19ED-433D-BE7B-A396CAE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CE06-1237-4E5B-A394-B820B0FA4D0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A8A7-C653-4F52-8FEC-A1A48CA1B18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1080" y="500040"/>
            <a:ext cx="61182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c3bf95"/>
                </a:solidFill>
                <a:latin typeface="Cambria"/>
              </a:rPr>
              <a:t>«Цифра»</a:t>
            </a:r>
            <a:endParaRPr b="0" lang="en-US" sz="7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1080" y="1999800"/>
            <a:ext cx="61182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600" spc="-1" strike="noStrike">
                <a:solidFill>
                  <a:srgbClr val="6d7d76"/>
                </a:solidFill>
                <a:latin typeface="Cambria"/>
              </a:rPr>
              <a:t>Майбутнє поруч</a:t>
            </a:r>
            <a:endParaRPr b="0" lang="en-US" sz="5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6" name="Picture 2" descr="C:\Users\Владелец\Desktop\Матеріали для роботи\Матеріали для презентації\Приклад логотипу.jpg"/>
          <p:cNvPicPr/>
          <p:nvPr/>
        </p:nvPicPr>
        <p:blipFill>
          <a:blip r:embed="rId1"/>
          <a:stretch/>
        </p:blipFill>
        <p:spPr>
          <a:xfrm>
            <a:off x="1170000" y="3359160"/>
            <a:ext cx="4925880" cy="4016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3bf95"/>
                </a:solidFill>
                <a:latin typeface="Cambria"/>
              </a:rPr>
              <a:t>Контактні данні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Адреса: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м. Донецьк., http://cifra.c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E-mail:    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menedjer@cifra.c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Тел..: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062-123-45-67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001-123-45-67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675e47"/>
                </a:solidFill>
                <a:latin typeface="Cambria"/>
              </a:rPr>
              <a:t>Товари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Планшет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Ноутбук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Електронні книг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Робот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Гаджети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2f2b20"/>
                </a:solidFill>
                <a:latin typeface="Calibri"/>
              </a:rPr>
              <a:t>…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1" name="Picture 2" descr="D:\Kornev\Олимпиада\Олимпиада ИКТ 2011-2012\II етап\Задачі\Матеріали для роботи\Матеріали для проспекту\book.jpg"/>
          <p:cNvPicPr/>
          <p:nvPr/>
        </p:nvPicPr>
        <p:blipFill>
          <a:blip r:embed="rId1"/>
          <a:stretch/>
        </p:blipFill>
        <p:spPr>
          <a:xfrm>
            <a:off x="6900840" y="5445000"/>
            <a:ext cx="108108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:\Kornev\Олимпиада\Олимпиада ИКТ 2011-2012\II етап\Задачі\Матеріали для роботи\Матеріали для проспекту\mous.jpg"/>
          <p:cNvPicPr/>
          <p:nvPr/>
        </p:nvPicPr>
        <p:blipFill>
          <a:blip r:embed="rId2"/>
          <a:stretch/>
        </p:blipFill>
        <p:spPr>
          <a:xfrm>
            <a:off x="7020000" y="1668600"/>
            <a:ext cx="788760" cy="71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:\Kornev\Олимпиада\Олимпиада ИКТ 2011-2012\II етап\Задачі\Матеріали для роботи\Матеріали для проспекту\nout.jpg"/>
          <p:cNvPicPr/>
          <p:nvPr/>
        </p:nvPicPr>
        <p:blipFill>
          <a:blip r:embed="rId3"/>
          <a:stretch/>
        </p:blipFill>
        <p:spPr>
          <a:xfrm>
            <a:off x="7105680" y="3500280"/>
            <a:ext cx="876240" cy="720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:\Kornev\Олимпиада\Олимпиада ИКТ 2011-2012\II етап\Задачі\Матеріали для роботи\Матеріали для проспекту\rob1.jpg"/>
          <p:cNvPicPr/>
          <p:nvPr/>
        </p:nvPicPr>
        <p:blipFill>
          <a:blip r:embed="rId4"/>
          <a:stretch/>
        </p:blipFill>
        <p:spPr>
          <a:xfrm>
            <a:off x="6178680" y="4365720"/>
            <a:ext cx="1035000" cy="718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:\Kornev\Олимпиада\Олимпиада ИКТ 2011-2012\II етап\Задачі\Матеріали для роботи\Матеріали для проспекту\планшет.jpg"/>
          <p:cNvPicPr/>
          <p:nvPr/>
        </p:nvPicPr>
        <p:blipFill>
          <a:blip r:embed="rId5"/>
          <a:stretch/>
        </p:blipFill>
        <p:spPr>
          <a:xfrm>
            <a:off x="6497640" y="2627280"/>
            <a:ext cx="10461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684360" y="830160"/>
            <a:ext cx="38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і буде?..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072120" y="5265720"/>
            <a:ext cx="250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!!!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98" name="Picture 2" descr="C:\Users\Владелец\Desktop\Матеріали для роботи\Матеріали для презентації\ПК3.jpg"/>
          <p:cNvPicPr/>
          <p:nvPr/>
        </p:nvPicPr>
        <p:blipFill>
          <a:blip r:embed="rId1"/>
          <a:stretch/>
        </p:blipFill>
        <p:spPr>
          <a:xfrm>
            <a:off x="7321680" y="19512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Владелец\Desktop\Матеріали для роботи\Матеріали для презентації\ПК_2.png"/>
          <p:cNvPicPr/>
          <p:nvPr/>
        </p:nvPicPr>
        <p:blipFill>
          <a:blip r:embed="rId2"/>
          <a:stretch/>
        </p:blipFill>
        <p:spPr>
          <a:xfrm>
            <a:off x="5810400" y="1341360"/>
            <a:ext cx="1498320" cy="1498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Владелец\Desktop\Матеріали для роботи\Матеріали для презентації\ПК1.jpg"/>
          <p:cNvPicPr/>
          <p:nvPr/>
        </p:nvPicPr>
        <p:blipFill>
          <a:blip r:embed="rId3"/>
          <a:stretch/>
        </p:blipFill>
        <p:spPr>
          <a:xfrm>
            <a:off x="4206960" y="2639880"/>
            <a:ext cx="1676160" cy="1212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Владелец\Desktop\Матеріали для роботи\Матеріали для презентації\Арифмометр.jpg"/>
          <p:cNvPicPr/>
          <p:nvPr/>
        </p:nvPicPr>
        <p:blipFill>
          <a:blip r:embed="rId4"/>
          <a:stretch/>
        </p:blipFill>
        <p:spPr>
          <a:xfrm>
            <a:off x="2352600" y="4048200"/>
            <a:ext cx="1822680" cy="113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Владелец\Desktop\Матеріали для роботи\Матеріали для презентації\абак.gif"/>
          <p:cNvPicPr/>
          <p:nvPr/>
        </p:nvPicPr>
        <p:blipFill>
          <a:blip r:embed="rId5"/>
          <a:stretch/>
        </p:blipFill>
        <p:spPr>
          <a:xfrm>
            <a:off x="360360" y="5211720"/>
            <a:ext cx="1852560" cy="128592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11"/>
          <p:cNvSpPr/>
          <p:nvPr/>
        </p:nvSpPr>
        <p:spPr>
          <a:xfrm>
            <a:off x="63360" y="6035760"/>
            <a:ext cx="1000440" cy="92844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382680 h 928440"/>
              <a:gd name="textAreaBottom" fmla="*/ 545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81481E-006 L 0.85573 -0.8676 E">
                                      <p:cBhvr>
                                        <p:cTn id="13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8:19:20Z</dcterms:created>
  <dc:creator>Владелец</dc:creator>
  <dc:description/>
  <dc:language>en-US</dc:language>
  <cp:lastModifiedBy>Корнев</cp:lastModifiedBy>
  <dcterms:modified xsi:type="dcterms:W3CDTF">2012-01-06T07:47:43Z</dcterms:modified>
  <cp:revision>10</cp:revision>
  <dc:subject/>
  <dc:title>«Цифра»</dc:title>
</cp:coreProperties>
</file>